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5BA16-3556-40D6-8E02-C0DBD8703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78DC-E0A7-498E-8AB9-DCB40637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FB33B-3519-48B3-A884-079113707E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86C02-DD50-4EA5-8A51-378C2CF354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3018D-19AB-4F18-BC7F-1944D1729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CF6D8-404F-4382-B72C-D16C07ABB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30FD4-3AFA-479C-9689-648801F96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6E27B-67FF-49BC-A196-D3D506498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7D291-3618-488E-9CD8-96C3B2FC4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A33EF-CBC1-4E2A-B43C-8819A4C907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42E1D7-D511-4983-8971-A1A0B44A4F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B34578-84F1-4956-9A3A-BFE3815C9D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3213A-9298-4C6F-AEC4-46B5E7F8C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BE3D2-AB0B-420F-A27F-49F777ACE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95D8E-233D-4F9F-B091-E470002B26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CC0A4-94EB-4639-A325-5926F707C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1D4E4E-F426-4F56-8607-6919A6AE45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EA2CB7-7A61-45FD-AA21-CBEE83F6D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5934FB-FF67-4976-95A5-7652C241C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417F2-C409-40E0-8F7A-BB819E39A4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7A1048-F0A9-4354-BAAB-E72E0695A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5731A-91B3-4035-A364-AC0179DFBC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CB7E17-BC00-49AA-A19B-2A06D70928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5A5C2-03EF-4890-9872-80EECF30B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46F7AF-4882-4980-B85D-D1766CB439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EC3B33-9C2B-4A8E-A4FF-C6A4CA4EA1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759AC-8A2C-4A7D-97D2-A99C5C2C9B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FD8F2-AD34-4980-9A05-DFFDBB506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010A10-4B65-4323-9267-40BB032F9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6553E-F2F8-4261-A8E5-510D7BBEE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C92BF8-5E38-48CB-B9FB-1A10F59F02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71751-E6B3-4D09-BEDD-58BF7DAFC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DAF8B1-CE94-4F06-A40A-F4831AC5D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D68AD1-E8A7-4EB4-A6D4-9110250DCF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C63C6-BBB3-4850-A2D0-B412352C6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FF1C4C-5C1D-4362-9E65-5651D1CE0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07A5CF-0C04-4813-BF64-FD82C88F53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54F25E-5AF4-4DDA-AB23-CE2BF6B19D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B8FB3F-F4B9-47B7-9CA7-33BD0F0602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304E07-99DF-4D04-89E0-F0C7801517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86AFAA-4155-4220-A29D-CD34F00AE9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5FE90D-A586-4408-8826-DC79BDA6F7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52209B-4B02-4A02-981C-1E2D7C49A3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C7C646-7E77-44A0-B5B0-949749594F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97E0AD-EB67-4B4B-88B5-C71C92D7C8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B1EAE-13A9-4DED-9143-7B28EAC0C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4576B7-F3CF-4B0F-B090-25CAC60BA3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8A858F-6205-4B96-9D93-7E1AC71681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5A7C3D-826C-424C-A8FC-8448AA31E8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4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C6AC66-A22C-480A-80C5-7FB738C39F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8115E4-EACE-483E-8DFD-B1F951B7E2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784342-7F70-46D2-8812-B2DC8A86CC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DAE08B-D261-40E7-BF8F-E88BBFCD19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EC7276-F7E8-4875-AC95-178B01C75D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EA118B-8137-42C8-80A7-75EC188BC8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999760-E5C9-4BFC-8FE5-173D3FD02F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C5A62-8947-499B-BA3D-1C0360F46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239D4F-4BC0-44AE-B82D-E28E54C06E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DFFB57-519B-4073-8C1F-C56CCC7125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531E27-6396-421E-96ED-24EAC241E4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F6D113-1ED7-4A5C-BED8-ABE8BEF553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EC1154-E9AE-45BB-8DDD-FDB28C8495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0DB1E1-4C0A-40D9-83D9-694DAD5333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69F55D-3DF9-4735-88BA-768CD407ED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A7C92A-670F-4B50-BFA8-5A060639C6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6CD119-531A-497C-B8E7-902DCE0F51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E0A5F6-14D6-4766-99F9-F71DB1C139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2926F-39BF-4399-9539-208F59D5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F94690-B631-41AE-B6CE-144305AF8E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B528D0-7A32-4633-8B45-A3A3684C58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DDC209-E119-4BBB-8301-E8CD99A59E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C88F0E-DD64-4A1C-A0DB-87A7FFF531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D33C3A-A54F-4ED7-BF8A-1EA2953ED2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1DFECC-9C24-43FA-A157-01CD43510F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FF74A3-5CF0-414E-8D54-B131423994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DE68C0-1249-48C6-8DE2-1293972C3A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76B6A7-30AA-4B55-AA5F-66DE0DFF5B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FED3F-D8E4-4E98-BFC3-BF7FB8F8E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5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02D2D-DEFB-4776-B7B2-0E50A1DE6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3F1B8-F919-4D08-855D-B484F48C6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2FAD7-1DD9-4C79-B26F-E6EECB2B2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D1B85-E1C9-4156-87B7-E69447BB9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3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62E0A-E329-4139-B9CD-3947311BB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CA7D6-7090-4233-8E98-111361C4F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3165F-0B0F-45D6-B589-E87C25410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4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4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4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4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4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4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BFC16-9975-426F-8CA0-52A6B8B40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8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D570-C350-46ED-8CBF-4A8DC37B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CC2641B-CAAB-4E5E-ABE8-376EF707D79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sldNum" idx="10"/>
          </p:nvPr>
        </p:nvSpPr>
        <p:spPr/>
        <p:txBody>
          <a:bodyPr/>
          <a:p>
            <a:fld id="{783C3CF5-78AC-45D5-A8AA-D165BD57FD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sldNum" idx="10"/>
          </p:nvPr>
        </p:nvSpPr>
        <p:spPr/>
        <p:txBody>
          <a:bodyPr/>
          <a:p>
            <a:fld id="{7AEF7016-4261-4634-879F-D64C356467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E4FA-2423-499E-9830-1B110699B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sldNum" idx="10"/>
          </p:nvPr>
        </p:nvSpPr>
        <p:spPr/>
        <p:txBody>
          <a:bodyPr/>
          <a:p>
            <a:fld id="{9671E324-2A1F-4752-863B-A85BDC3E91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sldNum" idx="10"/>
          </p:nvPr>
        </p:nvSpPr>
        <p:spPr/>
        <p:txBody>
          <a:bodyPr/>
          <a:p>
            <a:fld id="{93957356-01D8-431D-8F77-EB00BF7F74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sldNum" idx="10"/>
          </p:nvPr>
        </p:nvSpPr>
        <p:spPr/>
        <p:txBody>
          <a:bodyPr/>
          <a:p>
            <a:fld id="{345BD9FC-AAF9-46F9-A786-2FCED16544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sldNum" idx="10"/>
          </p:nvPr>
        </p:nvSpPr>
        <p:spPr/>
        <p:txBody>
          <a:bodyPr/>
          <a:p>
            <a:fld id="{8C510C42-F444-4EA4-8E4B-A218294D00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sldNum" idx="10"/>
          </p:nvPr>
        </p:nvSpPr>
        <p:spPr/>
        <p:txBody>
          <a:bodyPr/>
          <a:p>
            <a:fld id="{A8DC65EB-51D7-47A8-81A9-8C7896D9EA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sldNum" idx="10"/>
          </p:nvPr>
        </p:nvSpPr>
        <p:spPr/>
        <p:txBody>
          <a:bodyPr/>
          <a:p>
            <a:fld id="{2CB006AD-BBA4-4D7F-95C1-3CD9B0750A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sldNum" idx="10"/>
          </p:nvPr>
        </p:nvSpPr>
        <p:spPr/>
        <p:txBody>
          <a:bodyPr/>
          <a:p>
            <a:fld id="{E72058FE-1668-4BEF-A259-4642F90013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sldNum" idx="10"/>
          </p:nvPr>
        </p:nvSpPr>
        <p:spPr/>
        <p:txBody>
          <a:bodyPr/>
          <a:p>
            <a:fld id="{F13257BB-7B31-492B-8111-5C9F6064F6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sldNum" idx="10"/>
          </p:nvPr>
        </p:nvSpPr>
        <p:spPr/>
        <p:txBody>
          <a:bodyPr/>
          <a:p>
            <a:fld id="{B9DA12B3-9F54-4183-A468-27DBA7B674D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30C1BD1-AC25-452B-9F1A-E03182BC27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8DEA-0B84-4E0F-9DAB-56300BCB6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9531A0-7F91-4BB7-A80B-E74717B1CC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0658AB-87A0-4A1C-A61B-8770FD5266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13EA247-8DB5-4B54-B53B-621FCDD43A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AC1333-DC94-4A14-B1F6-3A70B24132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8388374-DD81-46F9-80AE-CFBD811AAC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D274D0-864B-4313-ADEA-ED2BDB55A5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8750C5-7BB6-49FA-B7C6-EA579813FD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5B5FCC-13E5-4F2E-B625-7FE80F80A0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9C7BE2-3D3D-454D-9220-213B90721A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38BF8FA-7679-454C-B87F-8F93B1403D0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8487-EA1D-489F-B361-B2CF8BD1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4EB3D67-EED6-4684-81E8-868E76234F2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80A507F-B234-4B6D-BDA8-E4ACD029AF1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D7B3510-897A-44CB-BBA7-F9659D728C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FCC9B61-770D-4BEE-A080-E8A6C40C7A2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60CAD0-C04C-4E01-ACF0-C835E1950AB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7A7D48-DA32-4E8D-BCFE-C9C924350D7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05A7B87-F193-46D8-9832-422E192A124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A5EA9A-8974-432F-9091-2FFBC934142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8FC97DB-4199-4891-904A-0C5ED15CE87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2E85317-515C-46C5-853C-296D958BAC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43F4F-9E6E-40E1-8D12-CD22CE711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D28B5B-F94E-4BBA-B6F8-EE3E578F0A4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4A8FFB8-5327-4773-A678-7680C8EDE18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54302D8-7008-46D1-8842-E8510D80D72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3F33-399B-45ED-AD42-832F6E108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 name="PlaceHolder 2"/>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DD85-A5B8-43A8-BA2C-87F0D096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 name="PlaceHolder 2"/>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6" name="PlaceHolder 5"/>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5" name="PlaceHolder 4"/>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7" name="PlaceHolder 6"/>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9" name="PlaceHolder 8"/>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6FE9BE-C6D7-474A-AEB8-FD959FD46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062612-4ED0-4328-BA07-7F0B31C69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exon RR"/>
            </a:endParaRPr>
          </a:p>
        </p:txBody>
      </p:sp>
      <p:sp>
        <p:nvSpPr>
          <p:cNvPr id="3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FC74B7-BA26-413C-9341-2353D58AA55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A4A-7374-4C24-B058-01C457F38D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6" descr=""/>
          <p:cNvPicPr/>
          <p:nvPr/>
        </p:nvPicPr>
        <p:blipFill>
          <a:blip r:embed="rId2"/>
          <a:stretch/>
        </p:blipFill>
        <p:spPr>
          <a:xfrm>
            <a:off x="68400" y="76320"/>
            <a:ext cx="2268360" cy="761760"/>
          </a:xfrm>
          <a:prstGeom prst="rect">
            <a:avLst/>
          </a:prstGeom>
          <a:ln w="0">
            <a:noFill/>
          </a:ln>
        </p:spPr>
      </p:pic>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3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383"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4"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2917-1880-4984-97EA-D5AB842302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6" descr=""/>
          <p:cNvPicPr/>
          <p:nvPr/>
        </p:nvPicPr>
        <p:blipFill>
          <a:blip r:embed="rId2"/>
          <a:stretch/>
        </p:blipFill>
        <p:spPr>
          <a:xfrm>
            <a:off x="7620120" y="4878360"/>
            <a:ext cx="5079960" cy="1979640"/>
          </a:xfrm>
          <a:prstGeom prst="rect">
            <a:avLst/>
          </a:prstGeom>
          <a:ln w="0">
            <a:noFill/>
          </a:ln>
        </p:spPr>
      </p:pic>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4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425"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6"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E44D-87BA-4998-9E60-A3ADB72842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4" name="Picture 6" descr=""/>
          <p:cNvPicPr/>
          <p:nvPr/>
        </p:nvPicPr>
        <p:blipFill>
          <a:blip r:embed="rId3"/>
          <a:stretch/>
        </p:blipFill>
        <p:spPr>
          <a:xfrm>
            <a:off x="7397640" y="4776840"/>
            <a:ext cx="5445360" cy="2120760"/>
          </a:xfrm>
          <a:prstGeom prst="rect">
            <a:avLst/>
          </a:prstGeom>
          <a:ln w="0">
            <a:noFill/>
          </a:ln>
        </p:spPr>
      </p:pic>
      <p:pic>
        <p:nvPicPr>
          <p:cNvPr id="465" name="Picture 7" descr=""/>
          <p:cNvPicPr/>
          <p:nvPr/>
        </p:nvPicPr>
        <p:blipFill>
          <a:blip r:embed="rId4"/>
          <a:stretch/>
        </p:blipFill>
        <p:spPr>
          <a:xfrm>
            <a:off x="334800" y="128520"/>
            <a:ext cx="2156040" cy="766800"/>
          </a:xfrm>
          <a:prstGeom prst="rect">
            <a:avLst/>
          </a:prstGeom>
          <a:ln w="0">
            <a:noFill/>
          </a:ln>
        </p:spPr>
      </p:pic>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4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468"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69"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91EF-03FD-495F-BA22-419D3029C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7" name="Picture 6" descr=""/>
          <p:cNvPicPr/>
          <p:nvPr/>
        </p:nvPicPr>
        <p:blipFill>
          <a:blip r:embed="rId3"/>
          <a:stretch/>
        </p:blipFill>
        <p:spPr>
          <a:xfrm>
            <a:off x="334800" y="128520"/>
            <a:ext cx="2156040" cy="766800"/>
          </a:xfrm>
          <a:prstGeom prst="rect">
            <a:avLst/>
          </a:prstGeom>
          <a:ln w="0">
            <a:noFill/>
          </a:ln>
        </p:spPr>
      </p:pic>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5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510"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1"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6F8A-9E21-4C2C-83A8-734739364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9" name="Picture 6" descr=""/>
          <p:cNvPicPr/>
          <p:nvPr/>
        </p:nvPicPr>
        <p:blipFill>
          <a:blip r:embed="rId3"/>
          <a:stretch/>
        </p:blipFill>
        <p:spPr>
          <a:xfrm>
            <a:off x="7397640" y="4776840"/>
            <a:ext cx="5445360" cy="2120760"/>
          </a:xfrm>
          <a:prstGeom prst="rect">
            <a:avLst/>
          </a:prstGeom>
          <a:ln w="0">
            <a:noFill/>
          </a:ln>
        </p:spPr>
      </p:pic>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5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55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5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4948-F821-4A2B-A290-51D16CCAD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6" descr=""/>
          <p:cNvPicPr/>
          <p:nvPr/>
        </p:nvPicPr>
        <p:blipFill>
          <a:blip r:embed="rId2"/>
          <a:stretch/>
        </p:blipFill>
        <p:spPr>
          <a:xfrm>
            <a:off x="144360" y="112680"/>
            <a:ext cx="11854080" cy="6667560"/>
          </a:xfrm>
          <a:prstGeom prst="rect">
            <a:avLst/>
          </a:prstGeom>
          <a:ln w="0">
            <a:noFill/>
          </a:ln>
        </p:spPr>
      </p:pic>
      <p:sp>
        <p:nvSpPr>
          <p:cNvPr id="592"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C086-0EF1-49AC-9EEA-3549FFAD68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5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595" name="PlaceHolder 3"/>
          <p:cNvSpPr>
            <a:spLocks noGrp="1"/>
          </p:cNvSpPr>
          <p:nvPr>
            <p:ph type="dt" idx="37"/>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Picture 6" descr=""/>
          <p:cNvPicPr/>
          <p:nvPr/>
        </p:nvPicPr>
        <p:blipFill>
          <a:blip r:embed="rId2"/>
          <a:stretch/>
        </p:blipFill>
        <p:spPr>
          <a:xfrm>
            <a:off x="144360" y="112680"/>
            <a:ext cx="11854080" cy="6667560"/>
          </a:xfrm>
          <a:prstGeom prst="rect">
            <a:avLst/>
          </a:prstGeom>
          <a:ln w="0">
            <a:noFill/>
          </a:ln>
        </p:spPr>
      </p:pic>
      <p:sp>
        <p:nvSpPr>
          <p:cNvPr id="633"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C294-2E3B-40EE-9906-91AC144CDA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636" name="PlaceHolder 3"/>
          <p:cNvSpPr>
            <a:spLocks noGrp="1"/>
          </p:cNvSpPr>
          <p:nvPr>
            <p:ph type="dt" idx="38"/>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Picture 6" descr=""/>
          <p:cNvPicPr/>
          <p:nvPr/>
        </p:nvPicPr>
        <p:blipFill>
          <a:blip r:embed="rId2"/>
          <a:stretch/>
        </p:blipFill>
        <p:spPr>
          <a:xfrm>
            <a:off x="144360" y="112680"/>
            <a:ext cx="11854080" cy="6667560"/>
          </a:xfrm>
          <a:prstGeom prst="rect">
            <a:avLst/>
          </a:prstGeom>
          <a:ln w="0">
            <a:noFill/>
          </a:ln>
        </p:spPr>
      </p:pic>
      <p:sp>
        <p:nvSpPr>
          <p:cNvPr id="674"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C18C-6939-469F-8F00-81D39C8F91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6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677" name="PlaceHolder 3"/>
          <p:cNvSpPr>
            <a:spLocks noGrp="1"/>
          </p:cNvSpPr>
          <p:nvPr>
            <p:ph type="dt" idx="39"/>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Picture 6" descr=""/>
          <p:cNvPicPr/>
          <p:nvPr/>
        </p:nvPicPr>
        <p:blipFill>
          <a:blip r:embed="rId2"/>
          <a:stretch/>
        </p:blipFill>
        <p:spPr>
          <a:xfrm>
            <a:off x="144360" y="112680"/>
            <a:ext cx="11854080" cy="6667560"/>
          </a:xfrm>
          <a:prstGeom prst="rect">
            <a:avLst/>
          </a:prstGeom>
          <a:ln w="0">
            <a:noFill/>
          </a:ln>
        </p:spPr>
      </p:pic>
      <p:sp>
        <p:nvSpPr>
          <p:cNvPr id="715"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4DFA-5CEB-4403-9436-8C957AEC84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7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718" name="PlaceHolder 3"/>
          <p:cNvSpPr>
            <a:spLocks noGrp="1"/>
          </p:cNvSpPr>
          <p:nvPr>
            <p:ph type="dt" idx="40"/>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6" descr=""/>
          <p:cNvPicPr/>
          <p:nvPr/>
        </p:nvPicPr>
        <p:blipFill>
          <a:blip r:embed="rId2"/>
          <a:stretch/>
        </p:blipFill>
        <p:spPr>
          <a:xfrm>
            <a:off x="144360" y="112680"/>
            <a:ext cx="11854080" cy="6667560"/>
          </a:xfrm>
          <a:prstGeom prst="rect">
            <a:avLst/>
          </a:prstGeom>
          <a:ln w="0">
            <a:noFill/>
          </a:ln>
        </p:spPr>
      </p:pic>
      <p:sp>
        <p:nvSpPr>
          <p:cNvPr id="756"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6586-5A29-4EAE-9646-AAAB98C324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7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759" name="PlaceHolder 3"/>
          <p:cNvSpPr>
            <a:spLocks noGrp="1"/>
          </p:cNvSpPr>
          <p:nvPr>
            <p:ph type="dt" idx="41"/>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7640" y="-9360"/>
            <a:ext cx="12209760" cy="6867360"/>
          </a:xfrm>
          <a:prstGeom prst="rect">
            <a:avLst/>
          </a:prstGeom>
          <a:ln w="0">
            <a:noFill/>
          </a:ln>
        </p:spPr>
      </p:pic>
      <p:pic>
        <p:nvPicPr>
          <p:cNvPr id="42" name="Picture 7" descr=""/>
          <p:cNvPicPr/>
          <p:nvPr/>
        </p:nvPicPr>
        <p:blipFill>
          <a:blip r:embed="rId3"/>
          <a:stretch/>
        </p:blipFill>
        <p:spPr>
          <a:xfrm>
            <a:off x="-17640" y="-9360"/>
            <a:ext cx="2899080" cy="1536480"/>
          </a:xfrm>
          <a:prstGeom prst="rect">
            <a:avLst/>
          </a:prstGeom>
          <a:ln w="0">
            <a:noFill/>
          </a:ln>
        </p:spPr>
      </p:pic>
      <p:sp>
        <p:nvSpPr>
          <p:cNvPr id="43" name="TextBox 8"/>
          <p:cNvSpPr/>
          <p:nvPr/>
        </p:nvSpPr>
        <p:spPr>
          <a:xfrm>
            <a:off x="2598840" y="401760"/>
            <a:ext cx="2419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lexon RR"/>
              </a:rPr>
              <a:t>Universitas Muhammadiyah Sidoarjo</a:t>
            </a:r>
            <a:endParaRPr b="0" lang="en-US" sz="1600" spc="-1" strike="noStrike">
              <a:solidFill>
                <a:srgbClr val="000000"/>
              </a:solidFill>
              <a:latin typeface="Calibri"/>
            </a:endParaRPr>
          </a:p>
        </p:txBody>
      </p:sp>
      <p:sp>
        <p:nvSpPr>
          <p:cNvPr id="44" name="TextBox 9"/>
          <p:cNvSpPr/>
          <p:nvPr/>
        </p:nvSpPr>
        <p:spPr>
          <a:xfrm>
            <a:off x="10053720" y="6122880"/>
            <a:ext cx="1944720" cy="368280"/>
          </a:xfrm>
          <a:prstGeom prst="rect">
            <a:avLst/>
          </a:prstGeom>
          <a:solidFill>
            <a:srgbClr val="1b4685"/>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47" name="PlaceHolder 3"/>
          <p:cNvSpPr>
            <a:spLocks noGrp="1"/>
          </p:cNvSpPr>
          <p:nvPr>
            <p:ph type="dt" idx="4"/>
          </p:nvPr>
        </p:nvSpPr>
        <p:spPr>
          <a:xfrm>
            <a:off x="766800" y="565308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038480" y="565308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8682120" y="565308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CCEB-778D-4301-AC51-F9AD97A93C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144360" y="112680"/>
            <a:ext cx="11854080" cy="6667560"/>
          </a:xfrm>
          <a:prstGeom prst="rect">
            <a:avLst/>
          </a:prstGeom>
          <a:ln w="0">
            <a:noFill/>
          </a:ln>
        </p:spPr>
      </p:pic>
      <p:sp>
        <p:nvSpPr>
          <p:cNvPr id="797"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EF20-7B4C-4581-8DE6-7F6539EBDA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7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800" name="PlaceHolder 3"/>
          <p:cNvSpPr>
            <a:spLocks noGrp="1"/>
          </p:cNvSpPr>
          <p:nvPr>
            <p:ph type="dt" idx="42"/>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stretch/>
        </p:blipFill>
        <p:spPr>
          <a:xfrm>
            <a:off x="144360" y="112680"/>
            <a:ext cx="11854080" cy="6667560"/>
          </a:xfrm>
          <a:prstGeom prst="rect">
            <a:avLst/>
          </a:prstGeom>
          <a:ln w="0">
            <a:noFill/>
          </a:ln>
        </p:spPr>
      </p:pic>
      <p:sp>
        <p:nvSpPr>
          <p:cNvPr id="87"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0BDC-D8C1-4BE6-8B4D-CC7527C03E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90" name="PlaceHolder 3"/>
          <p:cNvSpPr>
            <a:spLocks noGrp="1"/>
          </p:cNvSpPr>
          <p:nvPr>
            <p:ph type="dt" idx="7"/>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4024440" y="596268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
          <p:cNvPicPr/>
          <p:nvPr/>
        </p:nvPicPr>
        <p:blipFill>
          <a:blip r:embed="rId2"/>
          <a:stretch/>
        </p:blipFill>
        <p:spPr>
          <a:xfrm>
            <a:off x="0" y="0"/>
            <a:ext cx="12192120" cy="6858000"/>
          </a:xfrm>
          <a:prstGeom prst="rect">
            <a:avLst/>
          </a:prstGeom>
          <a:ln w="0">
            <a:noFill/>
          </a:ln>
        </p:spPr>
      </p:pic>
      <p:pic>
        <p:nvPicPr>
          <p:cNvPr id="129" name="Picture 7" descr=""/>
          <p:cNvPicPr/>
          <p:nvPr/>
        </p:nvPicPr>
        <p:blipFill>
          <a:blip r:embed="rId3"/>
          <a:stretch/>
        </p:blipFill>
        <p:spPr>
          <a:xfrm>
            <a:off x="-17640" y="-9360"/>
            <a:ext cx="2899080" cy="1536480"/>
          </a:xfrm>
          <a:prstGeom prst="rect">
            <a:avLst/>
          </a:prstGeom>
          <a:ln w="0">
            <a:noFill/>
          </a:ln>
        </p:spPr>
      </p:pic>
      <p:sp>
        <p:nvSpPr>
          <p:cNvPr id="130" name="TextBox 8"/>
          <p:cNvSpPr/>
          <p:nvPr/>
        </p:nvSpPr>
        <p:spPr>
          <a:xfrm>
            <a:off x="2527200" y="349200"/>
            <a:ext cx="24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lexon RR"/>
              </a:rPr>
              <a:t>Universitas Muhammadiyah Sidoarjo</a:t>
            </a: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133" name="PlaceHolder 3"/>
          <p:cNvSpPr>
            <a:spLocks noGrp="1"/>
          </p:cNvSpPr>
          <p:nvPr>
            <p:ph type="dt" idx="9"/>
          </p:nvPr>
        </p:nvSpPr>
        <p:spPr>
          <a:xfrm>
            <a:off x="837720" y="6356520"/>
            <a:ext cx="1211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sldNum" idx="10"/>
          </p:nvPr>
        </p:nvSpPr>
        <p:spPr>
          <a:xfrm>
            <a:off x="2158560" y="6356520"/>
            <a:ext cx="50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78C3-FAD6-4EF9-B67C-10A62EB5D3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6" descr=""/>
          <p:cNvPicPr/>
          <p:nvPr/>
        </p:nvPicPr>
        <p:blipFill>
          <a:blip r:embed="rId2"/>
          <a:stretch/>
        </p:blipFill>
        <p:spPr>
          <a:xfrm>
            <a:off x="-17640" y="-9360"/>
            <a:ext cx="12209760" cy="6867360"/>
          </a:xfrm>
          <a:prstGeom prst="rect">
            <a:avLst/>
          </a:prstGeom>
          <a:ln w="0">
            <a:noFill/>
          </a:ln>
        </p:spPr>
      </p:pic>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1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174" name="PlaceHolder 3"/>
          <p:cNvSpPr>
            <a:spLocks noGrp="1"/>
          </p:cNvSpPr>
          <p:nvPr>
            <p:ph type="dt" idx="1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5"/>
          <p:cNvSpPr>
            <a:spLocks noGrp="1"/>
          </p:cNvSpPr>
          <p:nvPr>
            <p:ph type="sldNum" idx="1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473A-8DAA-4486-B0A4-9D46E4F9FD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6" descr=""/>
          <p:cNvPicPr/>
          <p:nvPr/>
        </p:nvPicPr>
        <p:blipFill>
          <a:blip r:embed="rId2"/>
          <a:stretch/>
        </p:blipFill>
        <p:spPr>
          <a:xfrm>
            <a:off x="3240" y="0"/>
            <a:ext cx="12191760" cy="6858000"/>
          </a:xfrm>
          <a:prstGeom prst="rect">
            <a:avLst/>
          </a:prstGeom>
          <a:ln w="0">
            <a:noFill/>
          </a:ln>
        </p:spPr>
      </p:pic>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21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216" name="PlaceHolder 3"/>
          <p:cNvSpPr>
            <a:spLocks noGrp="1"/>
          </p:cNvSpPr>
          <p:nvPr>
            <p:ph type="dt" idx="1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PlaceHolder 5"/>
          <p:cNvSpPr>
            <a:spLocks noGrp="1"/>
          </p:cNvSpPr>
          <p:nvPr>
            <p:ph type="sldNum" idx="16"/>
          </p:nvPr>
        </p:nvSpPr>
        <p:spPr>
          <a:xfrm>
            <a:off x="7238880" y="643248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C8AC-681C-4335-B49A-6F1E880555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6" descr=""/>
          <p:cNvPicPr/>
          <p:nvPr/>
        </p:nvPicPr>
        <p:blipFill>
          <a:blip r:embed="rId2"/>
          <a:stretch/>
        </p:blipFill>
        <p:spPr>
          <a:xfrm>
            <a:off x="144360" y="112680"/>
            <a:ext cx="11854080" cy="6667560"/>
          </a:xfrm>
          <a:prstGeom prst="rect">
            <a:avLst/>
          </a:prstGeom>
          <a:ln w="0">
            <a:noFill/>
          </a:ln>
        </p:spPr>
      </p:pic>
      <p:sp>
        <p:nvSpPr>
          <p:cNvPr id="256"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1D49-9760-4EED-8CA5-85C6DD23E0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2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259" name="PlaceHolder 3"/>
          <p:cNvSpPr>
            <a:spLocks noGrp="1"/>
          </p:cNvSpPr>
          <p:nvPr>
            <p:ph type="dt" idx="17"/>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6" descr=""/>
          <p:cNvPicPr/>
          <p:nvPr/>
        </p:nvPicPr>
        <p:blipFill>
          <a:blip r:embed="rId2"/>
          <a:stretch/>
        </p:blipFill>
        <p:spPr>
          <a:xfrm>
            <a:off x="144360" y="112680"/>
            <a:ext cx="11854080" cy="6667560"/>
          </a:xfrm>
          <a:prstGeom prst="rect">
            <a:avLst/>
          </a:prstGeom>
          <a:ln w="0">
            <a:noFill/>
          </a:ln>
        </p:spPr>
      </p:pic>
      <p:sp>
        <p:nvSpPr>
          <p:cNvPr id="297" name="Slide Number Placeholder 8"/>
          <p:cNvSpPr/>
          <p:nvPr/>
        </p:nvSpPr>
        <p:spPr>
          <a:xfrm>
            <a:off x="11426760" y="6332400"/>
            <a:ext cx="522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5300-C891-4280-98EE-B877BE2E46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2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300" name="PlaceHolder 3"/>
          <p:cNvSpPr>
            <a:spLocks noGrp="1"/>
          </p:cNvSpPr>
          <p:nvPr>
            <p:ph type="dt" idx="18"/>
          </p:nvPr>
        </p:nvSpPr>
        <p:spPr>
          <a:xfrm>
            <a:off x="10323000" y="6342120"/>
            <a:ext cx="1179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6" descr=""/>
          <p:cNvPicPr/>
          <p:nvPr/>
        </p:nvPicPr>
        <p:blipFill>
          <a:blip r:embed="rId2"/>
          <a:stretch/>
        </p:blipFill>
        <p:spPr>
          <a:xfrm>
            <a:off x="7620120" y="4878360"/>
            <a:ext cx="5079960" cy="1979640"/>
          </a:xfrm>
          <a:prstGeom prst="rect">
            <a:avLst/>
          </a:prstGeom>
          <a:ln w="0">
            <a:noFill/>
          </a:ln>
        </p:spPr>
      </p:pic>
      <p:pic>
        <p:nvPicPr>
          <p:cNvPr id="338" name="Picture 7" descr=""/>
          <p:cNvPicPr/>
          <p:nvPr/>
        </p:nvPicPr>
        <p:blipFill>
          <a:blip r:embed="rId3"/>
          <a:stretch/>
        </p:blipFill>
        <p:spPr>
          <a:xfrm>
            <a:off x="68400" y="76320"/>
            <a:ext cx="2268360" cy="761760"/>
          </a:xfrm>
          <a:prstGeom prst="rect">
            <a:avLst/>
          </a:prstGeom>
          <a:ln w="0">
            <a:noFill/>
          </a:ln>
        </p:spPr>
      </p:pic>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exon RR"/>
              </a:rPr>
              <a:t>Click to edit the title text format</a:t>
            </a:r>
            <a:endParaRPr b="0" lang="en-US" sz="4400" spc="-1" strike="noStrike">
              <a:solidFill>
                <a:srgbClr val="000000"/>
              </a:solidFill>
              <a:latin typeface="Alexon RR"/>
            </a:endParaRPr>
          </a:p>
        </p:txBody>
      </p:sp>
      <p:sp>
        <p:nvSpPr>
          <p:cNvPr id="3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Click to edit the outline text format</a:t>
            </a:r>
            <a:endParaRPr b="0" lang="en-US" sz="2800" spc="-1" strike="noStrike">
              <a:solidFill>
                <a:srgbClr val="000000"/>
              </a:solidFill>
              <a:latin typeface="Alexon R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cond Outline Level</a:t>
            </a:r>
            <a:endParaRPr b="0" lang="en-US" sz="2800" spc="-1" strike="noStrike">
              <a:solidFill>
                <a:srgbClr val="000000"/>
              </a:solidFill>
              <a:latin typeface="Alexon R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Third Outline Level</a:t>
            </a:r>
            <a:endParaRPr b="0" lang="en-US" sz="2800" spc="-1" strike="noStrike">
              <a:solidFill>
                <a:srgbClr val="000000"/>
              </a:solidFill>
              <a:latin typeface="Alexon R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ourth Outline Level</a:t>
            </a:r>
            <a:endParaRPr b="0" lang="en-US" sz="2800" spc="-1" strike="noStrike">
              <a:solidFill>
                <a:srgbClr val="000000"/>
              </a:solidFill>
              <a:latin typeface="Alexon R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Fifth Outline Level</a:t>
            </a:r>
            <a:endParaRPr b="0" lang="en-US" sz="2800" spc="-1" strike="noStrike">
              <a:solidFill>
                <a:srgbClr val="000000"/>
              </a:solidFill>
              <a:latin typeface="Alexon R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ixth Outline Level</a:t>
            </a:r>
            <a:endParaRPr b="0" lang="en-US" sz="2800" spc="-1" strike="noStrike">
              <a:solidFill>
                <a:srgbClr val="000000"/>
              </a:solidFill>
              <a:latin typeface="Alexon R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exon RR"/>
              </a:rPr>
              <a:t>Seventh Outline Level</a:t>
            </a:r>
            <a:endParaRPr b="0" lang="en-US" sz="2800" spc="-1" strike="noStrike">
              <a:solidFill>
                <a:srgbClr val="000000"/>
              </a:solidFill>
              <a:latin typeface="Alexon RR"/>
            </a:endParaRPr>
          </a:p>
        </p:txBody>
      </p:sp>
      <p:sp>
        <p:nvSpPr>
          <p:cNvPr id="341"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0B71-F402-4DBC-806C-4F1CC93EF6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1712520"/>
            <a:ext cx="12192120" cy="1454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lexon RR"/>
              </a:rPr>
              <a:t>UJIAN TESIS</a:t>
            </a:r>
            <a:br>
              <a:rPr sz="3000"/>
            </a:br>
            <a:r>
              <a:rPr b="0" lang="en-GB" sz="3000" spc="-1" strike="noStrike">
                <a:solidFill>
                  <a:srgbClr val="ffffff"/>
                </a:solidFill>
                <a:latin typeface="Alexon RR"/>
              </a:rPr>
              <a:t>RENCANA PENGEMBANGAN KURIKULUM PESANTREN DIGITAL MUHAMMADIYAH AT-TANWIR KABUPATEN PASURUAN</a:t>
            </a:r>
            <a:endParaRPr b="0" lang="en-US" sz="3000" spc="-1" strike="noStrike">
              <a:solidFill>
                <a:srgbClr val="000000"/>
              </a:solidFill>
              <a:latin typeface="Alexon RR"/>
            </a:endParaRPr>
          </a:p>
        </p:txBody>
      </p:sp>
      <p:sp>
        <p:nvSpPr>
          <p:cNvPr id="838" name="PlaceHolder 2"/>
          <p:cNvSpPr>
            <a:spLocks noGrp="1"/>
          </p:cNvSpPr>
          <p:nvPr>
            <p:ph type="subTitle"/>
          </p:nvPr>
        </p:nvSpPr>
        <p:spPr>
          <a:xfrm>
            <a:off x="2777760" y="3551040"/>
            <a:ext cx="6815160" cy="18507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NAMA : ASHADI</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NIM : 238610800084</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Pembimbing : Dr. Nurdyansyah, M.Pd</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lexon RR"/>
              </a:rPr>
              <a:t>Penguji : Dr. Imam Fauzi, Lc. M.Pd</a:t>
            </a:r>
            <a:endParaRPr b="0" lang="en-US" sz="2400" spc="-1" strike="noStrike">
              <a:solidFill>
                <a:srgbClr val="000000"/>
              </a:solidFill>
              <a:latin typeface="Alexon RR"/>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lexon RR"/>
              </a:rPr>
              <a:t>VISI, MISI PESANTREN DIGITAL MUHAMMADIYAH AT TANWIR </a:t>
            </a:r>
            <a:endParaRPr b="0" lang="en-US" sz="4000" spc="-1" strike="noStrike">
              <a:solidFill>
                <a:srgbClr val="000000"/>
              </a:solidFill>
              <a:latin typeface="Alexon RR"/>
            </a:endParaRPr>
          </a:p>
        </p:txBody>
      </p:sp>
      <p:sp>
        <p:nvSpPr>
          <p:cNvPr id="858"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VISI :</a:t>
            </a:r>
            <a:endParaRPr b="0" lang="en-US" sz="25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ncetak kader ulama’, intelektual, organisatoris, entrepreneur yg rohmatan lil álamin.</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ISI :</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madukan kurikulum pesantren , digital, sekolah ( Dinas ), dan Muhammadiyah.</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mperkuat karakter dan jiwa perjuangan santri.</a:t>
            </a:r>
            <a:endParaRPr b="0" lang="en-US" sz="2500" spc="-1" strike="noStrike">
              <a:solidFill>
                <a:srgbClr val="000000"/>
              </a:solidFill>
              <a:latin typeface="Alexon RR"/>
            </a:endParaRPr>
          </a:p>
          <a:p>
            <a:pPr marL="228600" indent="-2286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lexon RR"/>
              </a:rPr>
              <a:t>Mengembangkan model pembelajaran pesantren berbasis digital.</a:t>
            </a:r>
            <a:endParaRPr b="0" lang="en-US" sz="25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	</a:t>
            </a:r>
            <a:r>
              <a:rPr b="0" lang="en-GB" sz="4400" spc="-1" strike="noStrike">
                <a:solidFill>
                  <a:srgbClr val="ffffff"/>
                </a:solidFill>
                <a:latin typeface="Alexon RR"/>
              </a:rPr>
              <a:t>TUJUAN PESANTREN DIGITAL</a:t>
            </a:r>
            <a:endParaRPr b="0" lang="en-US" sz="4400" spc="-1" strike="noStrike">
              <a:solidFill>
                <a:srgbClr val="000000"/>
              </a:solidFill>
              <a:latin typeface="Alexon RR"/>
            </a:endParaRPr>
          </a:p>
        </p:txBody>
      </p:sp>
      <p:sp>
        <p:nvSpPr>
          <p:cNvPr id="860" name=""/>
          <p:cNvSpPr txBox="1"/>
          <p:nvPr/>
        </p:nvSpPr>
        <p:spPr>
          <a:xfrm>
            <a:off x="166680" y="1238040"/>
            <a:ext cx="11831760" cy="5089320"/>
          </a:xfrm>
          <a:prstGeom prst="rect">
            <a:avLst/>
          </a:prstGeom>
          <a:noFill/>
          <a:ln w="0">
            <a:noFill/>
          </a:ln>
        </p:spPr>
        <p:txBody>
          <a:bodyPr anchor="t">
            <a:normAutofit/>
          </a:bodyPr>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enyiapkan santri sbg individu yg mempunyai kompetensi islami dan mampu berdakwah di media nyata maupun digital.</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ampu mencetak santri yg memiliki jiwa social yg tinggi.</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ampu mengemban dakwah Muhammadiyah yg berkemajuan untuk ummat</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ampu menjadi kader-kader ulama’yg intelektual , berorganisasi, dan berjiwa entrepreneur. </a:t>
            </a: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TARGET OUTPUT SANTRI</a:t>
            </a:r>
            <a:endParaRPr b="0" lang="en-US" sz="4400" spc="-1" strike="noStrike">
              <a:solidFill>
                <a:srgbClr val="000000"/>
              </a:solidFill>
              <a:latin typeface="Alexon RR"/>
            </a:endParaRPr>
          </a:p>
        </p:txBody>
      </p:sp>
      <p:sp>
        <p:nvSpPr>
          <p:cNvPr id="862" name=""/>
          <p:cNvSpPr txBox="1"/>
          <p:nvPr/>
        </p:nvSpPr>
        <p:spPr>
          <a:xfrm>
            <a:off x="166680" y="1238040"/>
            <a:ext cx="11831760" cy="5089320"/>
          </a:xfrm>
          <a:prstGeom prst="rect">
            <a:avLst/>
          </a:prstGeom>
          <a:noFill/>
          <a:ln w="0">
            <a:noFill/>
          </a:ln>
        </p:spPr>
        <p:txBody>
          <a:bodyPr anchor="t">
            <a:normAutofit/>
          </a:bodyPr>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SANTRI MEMILIKI KARAKTER YG RELIGIUS SBG FONDASI AWAL DLM BERDAKWAH DI MASYARAKAT.</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KADER YG MILITAN DG DI BEKALI HAFALAN AL QURAN MINIMAL 3 JUZ DAN 100 HADITS PILIHAN.</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MENCETAK KADER DA’I YG MILITAN DG DI BEKALI ILMU2 DINIYAH DAN KEMAMPUAN BAHASA ARAB.</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MENCETAK KADER ATAU DA’I YG MAMPU BERDAKWAH SECARA LANGSUNG MAUPUN MELALUI MEDIA DI GITAL.</a:t>
            </a:r>
            <a:endParaRPr b="0" lang="en-US" sz="2500" spc="-1" strike="noStrike">
              <a:solidFill>
                <a:srgbClr val="000000"/>
              </a:solidFill>
              <a:latin typeface="Alexon RR"/>
            </a:endParaRPr>
          </a:p>
          <a:p>
            <a:pPr marL="514440" indent="-514440">
              <a:lnSpc>
                <a:spcPct val="90000"/>
              </a:lnSpc>
              <a:spcBef>
                <a:spcPts val="1001"/>
              </a:spcBef>
              <a:buClr>
                <a:srgbClr val="262626"/>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62626"/>
                </a:solidFill>
                <a:latin typeface="Alexon RR"/>
              </a:rPr>
              <a:t>MENCETAK KADER ATAU DA’I YG MEM[PUNYAI KETRAMPILAN / LIFE SKILL DI DUNIA ENTREPRENEURSHIP BAIK SCR. ONLINE MAUPUN OFFLINE.</a:t>
            </a:r>
            <a:endParaRPr b="0" lang="en-US" sz="25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66680" y="112320"/>
            <a:ext cx="11831760" cy="1042920"/>
          </a:xfrm>
          <a:prstGeom prst="rect">
            <a:avLst/>
          </a:prstGeom>
          <a:solidFill>
            <a:srgbClr val="1b4685"/>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4400" spc="-1" strike="noStrike">
              <a:solidFill>
                <a:srgbClr val="ffffff"/>
              </a:solidFill>
              <a:latin typeface="Alexon RR"/>
            </a:endParaRPr>
          </a:p>
        </p:txBody>
      </p:sp>
      <p:sp>
        <p:nvSpPr>
          <p:cNvPr id="864" name=""/>
          <p:cNvSpPr txBox="1"/>
          <p:nvPr/>
        </p:nvSpPr>
        <p:spPr>
          <a:xfrm>
            <a:off x="166680" y="3236760"/>
            <a:ext cx="11831760" cy="309096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lexon RR"/>
              </a:rPr>
              <a:t>TERIMA KASIH</a:t>
            </a:r>
            <a:endParaRPr b="0" lang="en-US" sz="50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lexon RR"/>
              </a:rPr>
              <a:t>PESANTREN DIGITAL MUHAMMADIYAH AT-TANWIR</a:t>
            </a:r>
            <a:endParaRPr b="0" lang="en-US" sz="2800" spc="-1" strike="noStrike">
              <a:solidFill>
                <a:srgbClr val="000000"/>
              </a:solidFill>
              <a:latin typeface="Alexon RR"/>
            </a:endParaRPr>
          </a:p>
        </p:txBody>
      </p:sp>
      <p:sp>
        <p:nvSpPr>
          <p:cNvPr id="840"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lexon RR"/>
              </a:rPr>
              <a:t>PESANTREN INI DI BAWAH NAUNGAN LEMBAGA PENGEMBANGAN PESANTREN MUHAMMADIYAH ( LPPM ) PDM. KAB. PASURUAN . YANG DI DIRIKAN PADA TANGGAL 22 OKTOBER 2021.</a:t>
            </a:r>
            <a:endParaRPr b="0" lang="en-US" sz="20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lexon RR"/>
              </a:rPr>
              <a:t>PESANTREN DIGITAL MUHAMMADIYAH AT TANWIR ADALAH PESANTREN YANG DIDIRIKAN SEBAGAI IMPLEMENTASI MUHAMMADIYAH BERKEMAJUAN DALAM MENGHADAPI ERA DIGITAL, DENGAN KONSEP MEDIA DIGITAL YAITU SEBUAH ALAT DAN KONTEN ATAU ISI DARI PESANTREN DIGITAL DG PEMBELAJARAN YG BERBASIS PESANTREN.</a:t>
            </a:r>
            <a:endParaRPr b="0" lang="en-US" sz="20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lexon RR"/>
              </a:rPr>
              <a:t>DASAR HUKUM :</a:t>
            </a:r>
            <a:endParaRPr b="0" lang="en-US" sz="3600" spc="-1" strike="noStrike">
              <a:solidFill>
                <a:srgbClr val="000000"/>
              </a:solidFill>
              <a:latin typeface="Alexon RR"/>
            </a:endParaRPr>
          </a:p>
        </p:txBody>
      </p:sp>
      <p:sp>
        <p:nvSpPr>
          <p:cNvPr id="842" name=""/>
          <p:cNvSpPr txBox="1"/>
          <p:nvPr/>
        </p:nvSpPr>
        <p:spPr>
          <a:xfrm>
            <a:off x="166680" y="1379520"/>
            <a:ext cx="11831760" cy="4743360"/>
          </a:xfrm>
          <a:prstGeom prst="rect">
            <a:avLst/>
          </a:prstGeom>
          <a:noFill/>
          <a:ln w="0">
            <a:noFill/>
          </a:ln>
        </p:spPr>
        <p:txBody>
          <a:bodyPr anchor="t">
            <a:normAutofit/>
          </a:bodyPr>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dang – undang tentang Sistem Pendidikan Nasional Nomor 20 Tahun 2003</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dang – undang tentang guru dan dosen Nomor 14 tahun 2005.</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raturan Menteri Pendidikan dan Kebudayaan Nomor 61 tahun 2014 tentang kurikulum satuian pendidikan pada pendidikan dasar dan menengah.</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raturan menteri pendidikan dan kebudayaan nomor 103 tahun 2014 tentang pembelajaran pada pendidikan dasar dan menengah.</a:t>
            </a:r>
            <a:endParaRPr b="0" lang="en-US" sz="2800" spc="-1" strike="noStrike">
              <a:solidFill>
                <a:srgbClr val="000000"/>
              </a:solidFill>
              <a:latin typeface="Alexon RR"/>
            </a:endParaRPr>
          </a:p>
          <a:p>
            <a:pPr marL="457200" indent="-45720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lexon RR"/>
              </a:rPr>
              <a:t>TUJUAN RENCANA PENGEMBANGAN KURIKULUM PESANTREN DIGITAL MUHAMMADIYAH AT TANWIR </a:t>
            </a:r>
            <a:endParaRPr b="0" lang="en-US" sz="3200" spc="-1" strike="noStrike">
              <a:solidFill>
                <a:srgbClr val="000000"/>
              </a:solidFill>
              <a:latin typeface="Alexon RR"/>
            </a:endParaRPr>
          </a:p>
        </p:txBody>
      </p:sp>
      <p:sp>
        <p:nvSpPr>
          <p:cNvPr id="844" name=""/>
          <p:cNvSpPr txBox="1"/>
          <p:nvPr/>
        </p:nvSpPr>
        <p:spPr>
          <a:xfrm>
            <a:off x="166680" y="1450440"/>
            <a:ext cx="11831760" cy="4876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TUK MENDESKRIPSIKAN KONDISI KURIKULUM PENDIDIKAN ISLAM  DI PESANTREN DIGITAL MUHAMMADIYAH AT TANWIR SAAT INI.</a:t>
            </a:r>
            <a:endParaRPr b="0" lang="en-US" sz="28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UNTUK MERENCANAKAN PENGEMBANGAN KURIKULUM PENDIDIKAN ISLAM YANG SESUAI DENGAN VISI, MISI, TUJUAN , DAN KARAKTERISTIK PESANTREN DIGITAL MUHAMMADIYAH AT TANWIR.</a:t>
            </a: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ANALISIS KONDISI PENDIDIKAN SAAT INI</a:t>
            </a:r>
            <a:endParaRPr b="0" lang="en-US" sz="4400" spc="-1" strike="noStrike">
              <a:solidFill>
                <a:srgbClr val="000000"/>
              </a:solidFill>
              <a:latin typeface="Alexon RR"/>
            </a:endParaRPr>
          </a:p>
        </p:txBody>
      </p:sp>
      <p:sp>
        <p:nvSpPr>
          <p:cNvPr id="846" name=""/>
          <p:cNvSpPr txBox="1"/>
          <p:nvPr/>
        </p:nvSpPr>
        <p:spPr>
          <a:xfrm>
            <a:off x="166680" y="1614600"/>
            <a:ext cx="11831760" cy="3628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STRUKTUR KURIKULUM :</a:t>
            </a:r>
            <a:endParaRPr b="0" lang="en-US" sz="2800" spc="-1" strike="noStrike">
              <a:solidFill>
                <a:srgbClr val="000000"/>
              </a:solidFill>
              <a:latin typeface="Alexon RR"/>
            </a:endParaRPr>
          </a:p>
          <a:p>
            <a:pPr lvl="4" marL="819000" indent="-457200">
              <a:lnSpc>
                <a:spcPct val="90000"/>
              </a:lnSpc>
              <a:spcBef>
                <a:spcPts val="499"/>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Mapel Umum mengikuti standart kurikulum yang di gunakan di SMP/MTs, SMA/MA/ Sederajat.</a:t>
            </a:r>
            <a:endParaRPr b="0" lang="en-US" sz="2400" spc="-1" strike="noStrike">
              <a:solidFill>
                <a:srgbClr val="000000"/>
              </a:solidFill>
              <a:latin typeface="Alexon RR"/>
            </a:endParaRPr>
          </a:p>
          <a:p>
            <a:pPr lvl="4" marL="819000" indent="-457200">
              <a:lnSpc>
                <a:spcPct val="90000"/>
              </a:lnSpc>
              <a:spcBef>
                <a:spcPts val="499"/>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Utk B. Arab dan B. Inggris di gunakan dalam kegiatan pesantren sehari2.</a:t>
            </a:r>
            <a:endParaRPr b="0" lang="en-US" sz="2400" spc="-1" strike="noStrike">
              <a:solidFill>
                <a:srgbClr val="000000"/>
              </a:solidFill>
              <a:latin typeface="Alexon RR"/>
            </a:endParaRPr>
          </a:p>
          <a:p>
            <a:pPr lvl="4" marL="819000" indent="-457200">
              <a:lnSpc>
                <a:spcPct val="90000"/>
              </a:lnSpc>
              <a:spcBef>
                <a:spcPts val="499"/>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Kewirausahaan diterapkan dengan pola yang tdk terstruktur spt halnya pembelajaran tahfidhul qur’an yang memiliki struktur pembelajaran tersendiri.</a:t>
            </a:r>
            <a:endParaRPr b="0" lang="en-US" sz="24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66680" y="112320"/>
            <a:ext cx="11831760" cy="1042920"/>
          </a:xfrm>
          <a:prstGeom prst="rect">
            <a:avLst/>
          </a:prstGeom>
          <a:solidFill>
            <a:srgbClr val="1b4685"/>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lexon RR"/>
            </a:endParaRPr>
          </a:p>
        </p:txBody>
      </p:sp>
      <p:sp>
        <p:nvSpPr>
          <p:cNvPr id="848"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BEBAN BELAJAR :</a:t>
            </a:r>
            <a:endParaRPr b="0" lang="en-US" sz="28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exon RR"/>
              </a:rPr>
              <a:t>Beban belajar juga dipadukan sesuai dengan jumlah jam pembelajaran pesantren yang memang lebih banyak dari pada sekolah pada umumnya , karena santri mukim di pesantren selama 24 jam per harinya.</a:t>
            </a:r>
            <a:endParaRPr b="0" lang="en-US" sz="2400" spc="-1" strike="noStrike">
              <a:solidFill>
                <a:srgbClr val="000000"/>
              </a:solidFill>
              <a:latin typeface="Alexon RR"/>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66680" y="112320"/>
            <a:ext cx="11831760" cy="104292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lexon RR"/>
              </a:rPr>
              <a:t>STRATEGI PELAKSANAAN MASA DEPAN</a:t>
            </a:r>
            <a:endParaRPr b="0" lang="en-US" sz="4400" spc="-1" strike="noStrike">
              <a:solidFill>
                <a:srgbClr val="000000"/>
              </a:solidFill>
              <a:latin typeface="Alexon RR"/>
            </a:endParaRPr>
          </a:p>
        </p:txBody>
      </p:sp>
      <p:sp>
        <p:nvSpPr>
          <p:cNvPr id="850" name=""/>
          <p:cNvSpPr txBox="1"/>
          <p:nvPr/>
        </p:nvSpPr>
        <p:spPr>
          <a:xfrm>
            <a:off x="166680" y="1238040"/>
            <a:ext cx="11831760" cy="5089320"/>
          </a:xfrm>
          <a:prstGeom prst="rect">
            <a:avLst/>
          </a:prstGeom>
          <a:noFill/>
          <a:ln w="0">
            <a:noFill/>
          </a:ln>
        </p:spPr>
        <p:txBody>
          <a:bodyPr anchor="t">
            <a:normAutofit/>
          </a:bodyPr>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NYUSUNAN KURIKULUM DIGITAL</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PEMBINAAN GURU / ASATIDZ</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AKTIFITAS KURIKULER</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EVALUASI DAN PEMANTAUAN RUTIN</a:t>
            </a:r>
            <a:endParaRPr b="0" lang="en-US" sz="2800" spc="-1" strike="noStrike">
              <a:solidFill>
                <a:srgbClr val="000000"/>
              </a:solidFill>
              <a:latin typeface="Alexon RR"/>
            </a:endParaRPr>
          </a:p>
          <a:p>
            <a:pPr marL="514440" indent="-514440">
              <a:lnSpc>
                <a:spcPct val="90000"/>
              </a:lnSpc>
              <a:spcBef>
                <a:spcPts val="1001"/>
              </a:spcBef>
              <a:buClr>
                <a:srgbClr val="000000"/>
              </a:buClr>
              <a:buFont typeface="Alexon R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MEMBANGUN BUDAYA SEKOLAH YANG POSITIF.</a:t>
            </a:r>
            <a:endParaRPr b="0" lang="en-US" sz="2800" spc="-1" strike="noStrike">
              <a:solidFill>
                <a:srgbClr val="000000"/>
              </a:solidFill>
              <a:latin typeface="Alexon R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295280" y="344520"/>
            <a:ext cx="9601200" cy="1185840"/>
          </a:xfrm>
          <a:prstGeom prst="rect">
            <a:avLst/>
          </a:prstGeom>
          <a:solidFill>
            <a:srgbClr val="1b4685"/>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lexon RR"/>
              </a:rPr>
              <a:t>HASIL PERENCANAAN KURIKULUM PESANTREN DIGITAL MUHAMMADIYAH  AT TANWIR</a:t>
            </a:r>
            <a:endParaRPr b="0" lang="en-US" sz="3500" spc="-1" strike="noStrike">
              <a:solidFill>
                <a:srgbClr val="000000"/>
              </a:solidFill>
              <a:latin typeface="Alexon RR"/>
            </a:endParaRPr>
          </a:p>
        </p:txBody>
      </p:sp>
      <p:sp>
        <p:nvSpPr>
          <p:cNvPr id="852" name=""/>
          <p:cNvSpPr txBox="1"/>
          <p:nvPr/>
        </p:nvSpPr>
        <p:spPr>
          <a:xfrm>
            <a:off x="166680" y="2844360"/>
            <a:ext cx="7004160" cy="3483000"/>
          </a:xfrm>
          <a:prstGeom prst="rect">
            <a:avLst/>
          </a:prstGeom>
          <a:noFill/>
          <a:ln w="0">
            <a:noFill/>
          </a:ln>
        </p:spPr>
        <p:txBody>
          <a:bodyPr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lexon RR"/>
              </a:rPr>
              <a:t>Prosentase Struktur Kurikulum  </a:t>
            </a:r>
            <a:r>
              <a:rPr b="0" lang="en-GB" sz="2800" spc="-1" strike="noStrike">
                <a:solidFill>
                  <a:srgbClr val="000000"/>
                </a:solidFill>
                <a:latin typeface="Alexon RR"/>
              </a:rPr>
              <a:t>:</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35 % pembelajaran Al Qur an</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30 % pembelajaran B. Arab.</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15 % pembelajaran dari dinas pendidikan.</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10 % untuk pembelajaran skill</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lexon RR"/>
              </a:rPr>
              <a:t>10 % untuk pembelajaran ekstra kurikuleer</a:t>
            </a:r>
            <a:endParaRPr b="0" lang="en-US" sz="2800" spc="-1" strike="noStrike">
              <a:solidFill>
                <a:srgbClr val="000000"/>
              </a:solidFill>
              <a:latin typeface="Alexon RR"/>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pic>
        <p:nvPicPr>
          <p:cNvPr id="853" name="Picture 3" descr=""/>
          <p:cNvPicPr/>
          <p:nvPr/>
        </p:nvPicPr>
        <p:blipFill>
          <a:blip r:embed="rId1"/>
          <a:srcRect l="0" t="10391" r="0" b="0"/>
          <a:stretch/>
        </p:blipFill>
        <p:spPr>
          <a:xfrm>
            <a:off x="6859440" y="1755720"/>
            <a:ext cx="5166000" cy="40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66680" y="112320"/>
            <a:ext cx="11831760" cy="1042920"/>
          </a:xfrm>
          <a:prstGeom prst="rect">
            <a:avLst/>
          </a:prstGeom>
          <a:solidFill>
            <a:srgbClr val="1b4685"/>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lexon RR"/>
            </a:endParaRPr>
          </a:p>
        </p:txBody>
      </p:sp>
      <p:sp>
        <p:nvSpPr>
          <p:cNvPr id="855" name=""/>
          <p:cNvSpPr txBox="1"/>
          <p:nvPr/>
        </p:nvSpPr>
        <p:spPr>
          <a:xfrm>
            <a:off x="166680" y="1238040"/>
            <a:ext cx="11831760" cy="5089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lexon RR"/>
              </a:rPr>
              <a:t>2. STRUKTUR KURIKULUM</a:t>
            </a:r>
            <a:r>
              <a:rPr b="0" lang="en-GB" sz="2800" spc="-1" strike="noStrike">
                <a:solidFill>
                  <a:srgbClr val="000000"/>
                </a:solidFill>
                <a:latin typeface="Alexon RR"/>
              </a:rPr>
              <a:t>.</a:t>
            </a:r>
            <a:endParaRPr b="0" lang="en-US" sz="2800" spc="-1" strike="noStrike">
              <a:solidFill>
                <a:srgbClr val="000000"/>
              </a:solidFill>
              <a:latin typeface="Alexon RR"/>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exon RR"/>
            </a:endParaRPr>
          </a:p>
        </p:txBody>
      </p:sp>
      <p:pic>
        <p:nvPicPr>
          <p:cNvPr id="856" name="Picture 3" descr=""/>
          <p:cNvPicPr/>
          <p:nvPr/>
        </p:nvPicPr>
        <p:blipFill>
          <a:blip r:embed="rId1"/>
          <a:srcRect l="4665" t="0" r="4999" b="11670"/>
          <a:stretch/>
        </p:blipFill>
        <p:spPr>
          <a:xfrm>
            <a:off x="5616720" y="1238400"/>
            <a:ext cx="5575320" cy="50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1-01T12:44:14Z</dcterms:created>
  <dc:creator>User</dc:creator>
  <dc:description/>
  <dc:language>en-US</dc:language>
  <cp:lastModifiedBy>rizal.y</cp:lastModifiedBy>
  <dcterms:modified xsi:type="dcterms:W3CDTF">2024-08-05T04:55:12Z</dcterms:modified>
  <cp:revision>33</cp:revision>
  <dc:subject/>
  <dc:title>RENCANA PENGEMBANGAN KURIKULUM PESANTREN DIGITAL MUHAMMADIYAH AT-TANWIR KAB. PASURUAN</dc:title>
</cp:coreProperties>
</file>